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 txBox="1"/>
          <p:nvPr/>
        </p:nvSpPr>
        <p:spPr>
          <a:xfrm>
            <a:off x="1239840" y="6400800"/>
            <a:ext cx="69134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1996 RSA Laboratories. All rights reserved.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                        Revised 8/26/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3120" y="5829480"/>
            <a:ext cx="84456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Building Blocks of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tt Robsh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SA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Summit - August 27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HMAC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MAC (1996) is a design for a message authentication code that builds on the properties of a 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velopment was implementation dr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use existing hash func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ffer good softwar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od theoretical basis for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reasingly popular and used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14400" y="228600"/>
            <a:ext cx="7731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ymmetric and Asymmetric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0200" y="1457280"/>
            <a:ext cx="7758000" cy="50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cryption algorithms can be divided into two classes depending on whether the sender and receiver share the same k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 the algorithm is symmetric (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 the algorithm is asymmetric (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ymmetric encryption can offer key management advantages, but symmetric encryption can offer speed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n we get the best of both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Best of Both Wor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classical solution is to use a “digital envelo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crypt the long message with DES then encrypt the DES key with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s combines the encryption speed of DES with the key management advantages of RSA public-key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228600"/>
            <a:ext cx="7731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ymmetric Encryp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DES and CDM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S (1977) is a symmetric block cipher that is standardized in FIPS 46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ll-studied and well-trusted despite its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S uses a 56-bi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DMF (Cryptographic Data Masking Facility) has a 40-bit key and is built around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228600"/>
            <a:ext cx="7731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Asymmetric Encryp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SA can be used as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public-key component of the digital envelope, an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digital signature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SA is widely used and is well tr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RSA keys in SET will resist todays most dedicated attacker (even when allowing for some possible factoring improv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00200" y="1457280"/>
            <a:ext cx="77580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SET the RSA modulus is 1024 bits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ing the latest factoring results it appears that factoring a 1024-bit modulus would require over 100,000,000,000 MY of computational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te that to factor RSA-129 eight calendar months were required to accumulate 5,000 MY of computation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ile factoring the RSA modulus may be infeasible we still have to be careful to use RS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e of the innovations of SET is the use of the OAEP method of message formatting prior to RSA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timal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mmetric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cryption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A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use of OAEP (1994) moves us on from more ad hoc methods of formatting blocks prior to RSA encry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AEP ties the security of RSA encryption closely to that of the basic RSA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version of OAEP used in SET is a more advanced version of the original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A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00200" y="1457280"/>
            <a:ext cx="77580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ile existing message formatting methods for RSA encryption have no known flaw, the provable security aspects of OAEP are very app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AEP is very new but already it is a part of the IEEE P1363 standards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urther revisions of the RSA Laboratories PKCS (Public Key Cryptography Standards) can be expected to support O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ther Features of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00200" y="1457280"/>
            <a:ext cx="7758000" cy="45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ile cryptographic algorithms are the focus here, they are only the star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ssage handling is built around the PKCS#7 cryptographic message syntax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ertification is built around X509.v3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 both standard and custom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basic summary of the cryptographic components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choice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relation of these choices to other standardization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 ongoing theme will be that SET combines tried and tested techniques with new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verview of Algorithm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has been built around sec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basic algorithms have been standardized and are in widesprea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also uses some of the latest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vel and innovative features such as HMAC and OAEP are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ummary and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aims of SET are very exc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willingness to use recent research results, to enhance security, is also exc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demonstrates how new techniques can be combined with established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 some ways SET is already leading the way for othe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hat is S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0200" y="1457280"/>
            <a:ext cx="7758000" cy="45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aims to enable secure and cost-effective on-line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ET specification offers a single, open-industry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development has required an intensive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pportunities for review and comment were considered part of th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What does SET o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ifferent parts of a SET transaction might req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g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uthentication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rusted cryptographic techniques are used to provide thes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Cryptographic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00200" y="1457280"/>
            <a:ext cx="7758000" cy="45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basic building blocks for SET are cryptograph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se algorithms have different properties and are used in a variety of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oosing a good algorithm is only a first step to a secure design; using it in the correct way is of equal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combines established techniques with the fruits of the lates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Cryptographic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goals of integrity, origin authentication, confidentiality and linkage can be achieved with the help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sh functions and message authentication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mmetric and asymmetric encrypt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digital signatu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Choice of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The Choice of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HA-1 (1994) is the hash function specified in FIPS 18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good hash function with many interesting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HA-1 is used withi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 optimize 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 a building block in the HMAC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 a crucial component in the OAEP formatting used for RSA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thew Robshaw</dc:creator>
  <dc:description/>
  <dc:language>en-US</dc:language>
  <cp:lastModifiedBy>Matthew Robshaw</cp:lastModifiedBy>
  <cp:revision>0</cp:revision>
  <dc:subject/>
  <dc:title>The Building Blocks of SET</dc:title>
</cp:coreProperties>
</file>